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2A21-A9FB-4836-9301-573499AED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3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and Theory on Family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Positive School -- Psychological The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Learning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the Social Learning Theory, people are not born with violent tend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viance is learned through the environment and life experi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 Modeling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generational Transmiss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cial Control The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ment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that develops between the infant and his or her primary caregiver affects relationships later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who are secure in their attachments are easily comforted and move freely from caregiver to strang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dividual Pathology and Male Batterer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eorists concede that a small number of domestic violence perpetrators exhibit behaviors similar to a person suffering with personality disord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highly resistant to counseling and other forms of intervention, suggesting psychopathological sic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Conflict School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is seen as the means by which the ruling class maintains its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makers are presumed to legitimize their positions of superiority by dominating minorities and the low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rty and unemployment resides as the core of crime in this approac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atriarchal Theory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widely used perspective on woman battering, also referred to as the feminist approach. The major tenet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elationships are considered a fundamental component of social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men by virtue of their privileged status is the means by which women are contro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ng the subordination of women by means of changing the social structure remains the major goal of the movement.  Equal access and protection through 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nder Inequalit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that female criminality has been ign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uthors state that female offenders have been inferior and their crimes in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valry hypothe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that women are likely to be protected by the criminal justice system and given more lenient trea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mmunities where mandatory arrest policies on domestic violence have been rigorously applied, the number of female offenders has risen dramatic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ts continue to debate that female offenders are self-defending against male agg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ultidimensional Theo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ly, researchers are turning to this theory to understand the complexities of family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ecological model” has been identified by U.S. Department of Health and Human Services as the best suited framework to address the causes, consequences, and treatment formulations for abused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esearch Method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involves a process of learning that goes beyond the simple gathering of information or discovering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oals are for the advancement of general knowledge or for the purpose of solv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ativ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Re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urces of Family Violence Data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Crime Victimization Survey (NCV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Incident-Based Report System (NIB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Enforcement Data – Uniform Crime Re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ions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mily Violence Theo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295280"/>
            <a:ext cx="834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scientists acknowledge that the social interactions are not random 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arned patterns of behavior are passed from generation to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ferences are made from individual and applied to society at large, the study is being done at the micro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amily abuse theories are at the micro lev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Classical Schoo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choose to engage in cr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sare Beccaria is called the father of classical crimi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possess a will that is free and therefore have the ability to rea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must be written specifically to define  criminal behavior as well as the punish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perspective for about 10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ational Choic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that criminal behavior is more than just a response to social pressures – is also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cus is to determine the effectiveness of interventions in order to decide how best to reduce the benefits of crime and increase the cost of criminal a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terrence Theo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nishment must be swift and certain in order to deter cr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terrent effect of punishment can be specific or general in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ists suggest that we do not understand how effective deterrence is, and why it works or fa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divism is reduced in some instances of family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Positive School-- Biological Theorie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ntroversial and have limited application to family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is model violent or criminal behavior is beyond the control of the individual and caused by the person’s bi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Positive School -- Sociological Theorie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Structure and Cultural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e of Violenc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isorganiz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-Rol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4:41:58Z</dcterms:modified>
  <cp:revision>32</cp:revision>
  <dc:subject/>
  <dc:title>Slide 1</dc:title>
</cp:coreProperties>
</file>